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19B7-2971-4AB1-B4C6-C2807A90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FAD-7B74-41BB-A4FE-566959BE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B9D-0474-4DBC-82F7-CFC35DD8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52A-BC0E-4647-A96C-E2CEDCD2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D476-AAC6-4CFD-AA85-04FA7592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0AEB-298A-4790-BCD8-3C531DBB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5C84-E25B-45B4-AC37-1281311D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8FEB-F8EF-473F-B6C1-7E37C5D7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5ACA-07DA-4CBE-91BB-49E36C75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15BC-3BAD-454C-8B66-475CB84E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669A-3FCB-4A6E-96D3-FFE84AED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3A3-73BB-4214-9BDB-C43570D3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4143-3F97-432B-998D-7FA1C7EB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132C-8CFA-4F6D-B15D-AF96741E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D5F9-9456-41C6-9890-1BA0C027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D482-41E9-4D0F-B39B-BF606C08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A1B2-5EC6-40E5-A869-8CD6436A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AE3-1933-414B-8A76-C15546FF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6AD-059A-4262-A257-634005A5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417-62A7-4FB8-A5E4-EB50766F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3A0-449D-4513-9BEB-4A0C9FF4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6FF-FF17-4CD4-80FF-4DDB0272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1F9-A57C-4F6E-AA23-1AF48AF8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0A2-98AD-4E04-A94E-9FEB2B8A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6D57-13C6-4DB9-A319-B8EA98949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9E45-5D17-41DC-87F5-5CC7EA49F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вадратные неравенств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тор: Группа квадратных неравен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Хотим начать со слов персидско-таджикского поэта Рудаки: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 тех пор как существует мирозданье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акого нет, кто б не нуждался в знанье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акой мы ни возьмем язык и век, 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сегда стремится к знанью человек 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тивац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находит ли применение эти неравенства в окружающем нас мире?! А может это просто прихоть математиков?! Наверно нет! Ведь всякое явление можно описать с помощью функции, а умения решать неравенства позволяют ответить на вопрос, при каких значениях аргумента эта функция положительна, а при каких отрицатель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е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Неравенст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ида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ax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 +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bx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+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&gt; 0, где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≠0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, b, c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некоторые числа, называются 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квадратны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 Black"/>
              </a:rPr>
              <a:t>Алгоритм решения неравенств второй степени с одной переменной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7694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иведите неравенство к ви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0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смотрите функц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пределите направление ветв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йдите точки пересечения параболы с осью абсцисс (для ни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х1и х2 найдите, решая уравнение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хематически постройте график функ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делите часть параболы, для котор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&gt;0 (y&lt;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 Black"/>
              </a:rPr>
              <a:t>Пример решения неравенств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1.5х2+9х-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&lt;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ссмотрим функци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5х2+9х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Графиком функции является парабола, ветви которой направлены ввер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4. 5х2+9х-2=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1=-2; х2=1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4501" t="0" r="0" b="18265"/>
          <a:stretch/>
        </p:blipFill>
        <p:spPr>
          <a:xfrm>
            <a:off x="3924360" y="5261040"/>
            <a:ext cx="29512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92360" y="531720"/>
            <a:ext cx="59040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9:10:12Z</dcterms:created>
  <dc:creator>Елена</dc:creator>
  <dc:description/>
  <dc:language>en-US</dc:language>
  <cp:lastModifiedBy>Елена</cp:lastModifiedBy>
  <dcterms:modified xsi:type="dcterms:W3CDTF">2011-06-02T20:13:34Z</dcterms:modified>
  <cp:revision>3</cp:revision>
  <dc:subject/>
  <dc:title>Квадратные неравенства</dc:title>
</cp:coreProperties>
</file>